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D2D-1556-4AD1-A4D6-4045951B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629-0D1A-4812-9524-988C465A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6AF-5E6F-4B7D-85DC-2B3ACC19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043-4B96-413B-9FC4-BB2893B9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E45-E44F-48D9-963E-F609B0B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914-8B34-4C00-B602-D414378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96D-7054-4C55-BAE8-6BF4725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81A-9F07-42C3-951D-D46DD46E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534-6B54-4606-A3FD-F1EB30A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AF7-F9FB-4A5F-A430-0E5968A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F33-743A-4DA3-BBAC-54E6E51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203-B91F-4379-8B00-16A75FD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96C5-B338-4C7A-B464-A6082394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ions and metho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to make produc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to custom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666880"/>
            <a:ext cx="6248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ing advertising to distribu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 about products, services, imag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ideas to achieve a desired outco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 of times per ad, game, or show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 product or service is associ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an athlete, team, or entertai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ing and using inf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customers to impro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decision ma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1600200"/>
            <a:ext cx="5943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ount that custom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 for produc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22096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289548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of a group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ch as age range, marital statu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der, ethnic background, 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vel, and education leve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graph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view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gramming attrac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t of $ individual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to spend af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cessities are paid for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retion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68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direct and perso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unication with customer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ess and satisfy their nee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decisions to 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ources in way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 in the greatest prof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t of satisfaction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 receives from the consump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articular product/servi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onom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a physical characteris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duct is improv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133720"/>
            <a:ext cx="7467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tudy of the relationshi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ween individ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umers and produc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90720" y="243828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econom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from making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 or service avail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an affordable pri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s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167652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es weather condition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avoided such 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rnadoes, hurricanes &amp; floo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onom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66680" y="19810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tur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1295280"/>
            <a:ext cx="7848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 business is leg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onsible for damag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might have to pay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edical cos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other losses suffered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jured per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1676520"/>
            <a:ext cx="73915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include custo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plifting and fraud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ployee theft and incompeten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00200" y="1676520"/>
            <a:ext cx="5791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umes the cos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nsurable ris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905120" y="1676520"/>
            <a:ext cx="53337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nten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come is unknow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d result in gain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ss for inves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95280" y="19810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tula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371600" y="1828800"/>
            <a:ext cx="6553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ossibil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ncial gain or lo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personal inju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95280" y="1371600"/>
            <a:ext cx="69343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venting, reducing, or lessen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egative impacts of risk by us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trategies of risk avoidanc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urance, transfer, and reten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752480" y="190512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1752480"/>
            <a:ext cx="74674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gh standards of r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guidelines in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and personal lif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i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198108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risk for which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ces of loss are predictabl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t of loss can be estima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2209680"/>
            <a:ext cx="5410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ur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1752480"/>
            <a:ext cx="7010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s in which people adv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childish behavio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ure responsible behavi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1219320"/>
            <a:ext cx="7315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come from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ture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ed to investo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h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est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66680" y="137160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all revenues rece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 expenses incur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er a specific period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company’s asse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its liabilities 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pecific point in ti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l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e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90720" y="1600200"/>
            <a:ext cx="73911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eport develo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dict the expense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nues from an ev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22096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eca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400" y="160020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lan for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f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sp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251460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dg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st the four strategies 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of managing risk.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3716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Avoid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Insur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Transf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Retent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4572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conom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th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477120"/>
            <a:ext cx="30456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a business blend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marketing elements of product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ion, price, and promo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essica Spangenberg</cp:lastModifiedBy>
  <dcterms:modified xsi:type="dcterms:W3CDTF">2009-10-26T22:02:12Z</dcterms:modified>
  <cp:revision>62</cp:revision>
  <dc:subject/>
  <dc:title>No Slide Title</dc:title>
</cp:coreProperties>
</file>